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C815D6-72D8-4B63-8BC1-51B65FFE36B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43BC16-F36C-42C7-AA89-57E2C0C94B1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8585D2-40EF-455B-878E-4037393E78C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7D2871-88F3-43D3-A1B1-CEBFED4A62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3B2451-7682-4198-8998-4E85AAACE75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B1FB6A-E5C1-455F-B40A-A2F24C6054B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58EC3A-148C-4D45-A93E-DC3A1280695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DB352-C8F1-4DBF-8C6E-6FE140922A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E26B68-C9B7-466A-B15B-8A7822C9CF3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5C9F-732B-4088-B522-E980E7F74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07E48-F00D-4C9C-80D0-AA4015B2ABA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2389F-2F94-4821-B47B-43C517EEB2A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67BAA-C81C-4839-A512-7A9CD0E105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CC528-CC2B-4F6D-B1F9-AE93DC65592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CAF76-C498-4708-BB2C-3BDDCCCE596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807BB-6263-498F-BCCF-9592224D44B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B3603-D314-49F1-96F5-65D6718025C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C6921-AB9C-4C15-A923-E4313B3B37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A5AE2-7B85-47BC-8BFF-640E580BAB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EB431-9A43-4336-9710-2A309B264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13955-1F29-4E06-A31D-7104A1F9C58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9C697-00B3-477F-AC57-37D34471DF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8F18E-27D6-4B35-B628-62CFB46B879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838F4-A98B-4EBA-9E73-874F753F14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B8573-F640-4457-882F-271E6582E3A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75F6F-6AC7-4EB1-A607-D5D793002A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C52F2-A8C8-41DF-86ED-5C18DB1BC9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97936-608E-4B71-BE00-417F18F32E1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C3064-7EA1-41A4-8F91-BDE43E5E2FD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D7542-03F9-4E2C-AE4B-974FDC268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AA34-14A3-4543-B3D4-8064588DE5A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4283B-9411-4EF4-BCF9-D83A6F01828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1CA2D-61CA-4CAA-91FA-CFBC5BD7879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9BF2D-BF76-4A3D-83B8-DBCCCCF3E0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0DC4-8DFE-4DF2-BB11-7344546221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2250-1A84-473A-B545-A89E96BBE6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AD0A-9217-4072-B78C-4E758CAEB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3431-A1A2-44B3-910B-493427EE33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5A5A-1C80-4757-A16C-7FE1370157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7CA6-C253-47E4-9A4B-BAF755A5C1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A834-E4E5-425A-BCD6-9AF591EA08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C49F-2411-422D-A308-3AD56C278E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1D65-22E1-4318-A167-8E39FD77E5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956E-9278-4B55-AC5E-F3F7B2B847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2E3A-7BF0-4FF8-9BCF-402DB0A3A8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B60A2-928D-4456-960F-D826D6414F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0FFF6-A071-44E1-8B0D-3876A6509F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CF8CD-F8C0-4F07-AA59-4C4574219F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E22A0-AE72-4C5F-9AE5-D1D48D91D4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9B999-D697-49EB-A7AB-482E713C3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3ECF3-9DA1-4EDF-BEE9-290C93825C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42A98-59C9-4615-8840-7F62F2B202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21C75-86F8-4E2E-B2BE-0C03A505C6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E138C-996E-436E-A993-AE88D02731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D9F13-FEA0-4FE2-B0E4-763F9B477F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9DAB6-BB7B-46AF-9685-5FF749CFF5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DC776-96E4-41CA-B6A4-E4727EA806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61E2-D995-4D73-AC17-76C73C50B2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659F-B1E3-45C0-83E0-371DEF7B17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2D26-23EE-4045-ACD3-EEFC119B2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A431-7406-4069-917B-0C2CA4A211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00D5-F7B1-4EE5-8294-9ED8400FFC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DE2E-9CA1-4632-99BA-0AA0DF3483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8F1C-3DE5-4B72-B2A4-CD70BEB488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3AA8-9BCC-440F-BAC6-279249CC3B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7E45-0AB7-4494-9432-33A899CEA2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213C-1063-4F44-A3D4-9B39D1BC28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DDB0-D6E1-4266-9A0C-3455AA1C81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420D-50F3-48D4-8CCC-95DC26DBBA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17B0E-3BC2-47BE-B8D7-BD107E3B5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F5C97-B59C-44B6-BE02-5793F8610E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CD3D6-7EBC-4616-A1CA-861716BA45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BD68D-F294-44BB-9F11-747196F1D0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38906-CCD6-47E2-91EE-A2B1776C8CE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48FA4-D991-48A3-85BE-4E8A81CCB6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568BC-1F5C-4B38-B7EB-BD43B6389A2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D3517-7B0B-4580-AEC3-A876B31B19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88A9B-E694-4770-9861-CB494225A80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F07AA-2001-4D2E-B450-F524E20833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C9BF7-5BCD-45FE-AA41-1320072CD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84B67-13B7-4DDB-9E21-7577C9F0598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E911F-AD33-47C4-9B68-3895EB0DAD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860AF-3214-47DF-84C6-974838A176F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9F4C8-21AF-4085-A532-3D3B196D7F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06FB3-09FD-495A-A480-1248A4C072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5937E-6848-4A27-83A0-84B8E22120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51202-AE17-48F1-80D1-F38E8D558C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CA903-6D1A-4240-90E6-986F66FF4CE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B42DC-38DF-46A5-BF18-4008DEF9DBB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4FFA2-439B-479B-A105-9B44431C2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332162-7E83-488F-B57D-F5F2EAFFA2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63BB0-D1AE-41BA-AFF9-F1C7DAC354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C9A6C-379A-4A50-9C2B-B93DFBEBEE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2F25-6267-4100-A58A-97DC960E4B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85886-D892-4DEB-947F-64A47C0B344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12421-C9AC-4F64-B9B4-0DBCFC56BD0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F9C15-7F71-4217-9088-7A9F91B450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54A0-F9CF-4D82-A66F-53C28A2841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7916-59AB-4B85-B720-82EF3AD0B4F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B683-899D-4BD4-831F-78838E7C1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E412-546A-47AC-BBBC-AA781279E4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119AB-DA07-4505-AE5B-F3E98D99616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CB5C-1698-4FC2-8A95-43A861A859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7EEA-5715-47FA-80D4-0A2BE474C1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D3B5-E1F1-4CC5-985B-998BBA681B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64A10-68B8-47EE-BE2D-2754A1F7BD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D5F30-87FD-4DF4-BAFD-101E7210ADC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E1D53-C1FB-4DB8-97E9-14E4C1D89F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3D59C-F18A-41D6-9FB6-9AFEEC43FAF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22167-FA91-463F-B69E-80187DA44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10680-8747-400E-A43C-58D1CB6945E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101F8-B56D-47F0-9D3B-7C52E825B4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3216A-4A8C-467B-B4ED-AEDED63B28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287B4-76F1-4950-9636-42DB09C2768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D9DF9-8175-46ED-A786-B57ED1E4A51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CA67B-7F0A-4038-9A3E-77269C3CB6A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5D40A-615A-4B1F-81F3-D36742156D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3BBD52-AF03-409D-9543-B1EF6034414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3690A4-F42B-4416-BE59-AD125C09EF6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B7F3E-5699-4803-A4F8-62D82951D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E3CA-3643-418C-8BB0-4F30121BDE3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FC9D-FDC6-40D5-AE8A-83F167B6F32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7276-B199-499E-91FD-F4047256C89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697C-AE3E-45C4-9728-DDF5A694D31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DFC-2166-4D2C-9392-5CF8BA60F26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5D7E-5201-4AE1-B733-B47AADD90EC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948A-EE16-4D36-AEA7-30905BFC8E2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57AE-3FD0-4F2D-ACD9-E3FEFEB49AC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D84A-2634-4CCF-BA98-E4B6A0E741A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D85A-ED3A-4DAA-90E3-D8E02E561B3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Ergonomia Olistic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Luigi Bandini But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10 Polimi + 15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395280" y="357336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62626"/>
                </a:solidFill>
                <a:latin typeface="Verdana"/>
              </a:rPr>
              <a:t>Il corso si propone di rispondere alla domanda: come faccio a fare in modo che il mio progetto di prodotto, interni, comunicazione o moda rispetti i bisogni e desideri dell’utente finale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ispondere a questa domanda il corso afferma che non bisogna considerare gli individui per singoli aspetti come fa l’ergonomia classica (vedo, sento, mi muovo, ecc.) ma come entità complesse cioè olistiche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100548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Verdana"/>
              </a:rPr>
              <a:t>Per ottenere prodotti, ambienti, sistemi per tutti, non si dovranno ricercare le deficienze (Universal design) ma le opportunità (Design for All)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i analizzerà come indagare su bisogni, desideri e sogni dei potenziali utenti finali, partendo dal principio che tutti i soggetti sono differenti e che la “diversità è una risorsa”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corso indagherà sulle metodologie progettuali dell'ergonomia olistica, sugli aspetti relazionali degli individui (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Prossemic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 su un originale approccio all’interdisciplinarietà (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Fatti la Domanda Gius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, per renderli applicabili durante l'atto progettuale che è sempre essenzialmente creativo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L'attività del corso si svolgerà attraverso lezioni, seminari, esercitazioni finalizzate ad acquisire da parte degli studenti le nozioni che consentano la progettazione di prodotti usabili correttamente da tutti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Luigi</cp:lastModifiedBy>
  <cp:lastPrinted>2003-05-08T11:08:41Z</cp:lastPrinted>
  <dcterms:modified xsi:type="dcterms:W3CDTF">2014-07-30T09:42:30Z</dcterms:modified>
  <cp:revision>210</cp:revision>
  <dc:subject/>
  <dc:title>Inserire immagine della locandina, possibilmente in trasparenza e aggiungere Facoltà di Architettura Illustrazione prova di ammissione prof. Silvia Piardi (idem Cedolin)</dc:title>
</cp:coreProperties>
</file>